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0B-0171-449B-8DAF-5DD63816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2AE-E98F-4994-9FC2-65BEEFFE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014-BE44-49E5-A41F-0B56CBF1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1C6-5F19-4903-B7E0-2DDAA22D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5D4-E7E3-4F8B-8453-56D936D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69F-9EEB-4FC0-AC4C-9E113AD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9A5-08F7-4F36-BC0F-29BE288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61D-34E1-43F1-AD0C-406DBE00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9D9-972F-4B6F-BEAF-487C3E9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A4E-5CEE-4FBB-9F53-E4491FB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C1C-AE17-47F5-B967-3FB038A9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A95-13BF-4325-9AD3-C5CE6E7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334-43AC-4332-9E0E-3FE6DE75E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rso.wanadoo.fr/codep80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90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OUVERTE DE LA G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76720"/>
            <a:ext cx="853452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 concept sport sant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 basé sur la gestion du capital santé de l’individu par l’activité phys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 séa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parents bébé, enfants, adultes, sen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cad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ar des cadres compétents diplôm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590920"/>
            <a:ext cx="73152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A FEDERATION  F.F.E.P.G.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édération Française d’éducation physique et de gymnastique Volont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00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1,43 Rue de Reui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 : //www.ffepgv.org                                         PARIS 750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1 44 68 85 4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438280"/>
            <a:ext cx="6705720" cy="37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REGIONAL de PICARD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1.000 Licenc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groupant les Dépar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ISNE     (02)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bis Rue Charles Far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ISE        (60)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Puy Du R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E   (80)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0200  COMPIE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44 20 12 5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31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8720" y="97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362320"/>
            <a:ext cx="807732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45d145"/>
                </a:solidFill>
                <a:uFillTx/>
                <a:latin typeface="Times New Roman"/>
              </a:rPr>
              <a:t>LE COMITE DEPARTEMENTAL de la  S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DEP 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.000 Licen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55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0 Cadres d’Animation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Rue Gast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lanc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0170 Wiencourt l’Equip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fr-FR" sz="1400" spc="-1" strike="noStrike">
                <a:solidFill>
                  <a:srgbClr val="ff3300"/>
                </a:solidFill>
                <a:latin typeface="Times New Roman"/>
              </a:rPr>
              <a:t>Tel : 03 22 42 31 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58200" y="-4899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outonRetourSommaire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5638680"/>
            <a:ext cx="97164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7:13:32Z</dcterms:created>
  <dc:creator>Luc</dc:creator>
  <dc:description/>
  <dc:language>en-US</dc:language>
  <cp:lastModifiedBy>Luc</cp:lastModifiedBy>
  <dcterms:modified xsi:type="dcterms:W3CDTF">2002-06-08T11:09:38Z</dcterms:modified>
  <cp:revision>40</cp:revision>
  <dc:subject/>
  <dc:title>Présentation PowerPoint</dc:title>
</cp:coreProperties>
</file>