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493F-92A9-44B4-BF3E-97F36FB3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B381-7A87-458C-97A5-31370EC9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203F-1E74-4D08-BFAB-F0EFFAA97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4057-C6A1-4A9A-9845-C8F8F8284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E9A2-8C36-40F2-B6CB-0AA451F0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55DC-FC01-4188-A234-7FCD2D36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5DA7-FBC8-4D2E-B12A-BF285FE4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EC1C-30F9-4644-8150-5B2C739F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33EB-A075-4E49-9B86-CBDC1F3D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48BA-D284-4C0C-8778-73C68BC1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3BE0-6E5E-4CB6-B4A4-8E2C5112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8493-0537-4A7E-9BBD-A277BE05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E72F-6F13-43DD-B0FB-3DEB14EBD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rso.wanadoo.fr/codep80/index.htm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" descr=""/>
          <p:cNvPicPr/>
          <p:nvPr/>
        </p:nvPicPr>
        <p:blipFill>
          <a:blip r:embed="rId1"/>
          <a:stretch/>
        </p:blipFill>
        <p:spPr>
          <a:xfrm>
            <a:off x="0" y="0"/>
            <a:ext cx="3581280" cy="2317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338720" y="97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590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ECOUVERTE DE LA G.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276720"/>
            <a:ext cx="8534520" cy="19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e concept sport santé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st basé sur la gestion du capital santé de l’individu par l’activité phys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es séanc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 parents bébé, enfants, adultes, seni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ncadr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par des cadres compétents diplôm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logo" descr=""/>
          <p:cNvPicPr/>
          <p:nvPr/>
        </p:nvPicPr>
        <p:blipFill>
          <a:blip r:embed="rId1"/>
          <a:stretch/>
        </p:blipFill>
        <p:spPr>
          <a:xfrm>
            <a:off x="0" y="0"/>
            <a:ext cx="3581280" cy="2317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338720" y="97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2590920"/>
            <a:ext cx="731520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45d145"/>
                </a:solidFill>
                <a:uFillTx/>
                <a:latin typeface="Times New Roman"/>
              </a:rPr>
              <a:t>LA FEDERATION  F.F.E.P.G.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édération Française d’éducation physique et de gymnastique Volont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500.000 Licenci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41,43 Rue de Reui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htt : //www.ffepgv.org                                         PARIS 75012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fr-FR" sz="1400" spc="-1" strike="noStrike">
                <a:solidFill>
                  <a:srgbClr val="ff3300"/>
                </a:solidFill>
                <a:latin typeface="Times New Roman"/>
              </a:rPr>
              <a:t>Tel : 01 44 68 85 40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58200" y="-489924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logo" descr=""/>
          <p:cNvPicPr/>
          <p:nvPr/>
        </p:nvPicPr>
        <p:blipFill>
          <a:blip r:embed="rId1"/>
          <a:stretch/>
        </p:blipFill>
        <p:spPr>
          <a:xfrm>
            <a:off x="0" y="0"/>
            <a:ext cx="3581280" cy="2317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338720" y="97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2438280"/>
            <a:ext cx="6705720" cy="37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45d145"/>
                </a:solidFill>
                <a:uFillTx/>
                <a:latin typeface="Times New Roman"/>
              </a:rPr>
              <a:t>LE COMITE REGIONAL de PICAR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11.000 Licenci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groupant les Dépar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ISNE     (02) 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3 bis Rue Charles Faro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ISE        (60)       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 Puy Du R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MME   (80)  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60200  COMPIEG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0" lang="fr-FR" sz="1400" spc="-1" strike="noStrike">
                <a:solidFill>
                  <a:srgbClr val="ff3300"/>
                </a:solidFill>
                <a:latin typeface="Times New Roman"/>
              </a:rPr>
              <a:t>Tel : 03 44 20 12 5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458200" y="-489924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logo" descr=""/>
          <p:cNvPicPr/>
          <p:nvPr/>
        </p:nvPicPr>
        <p:blipFill>
          <a:blip r:embed="rId1"/>
          <a:stretch/>
        </p:blipFill>
        <p:spPr>
          <a:xfrm>
            <a:off x="0" y="0"/>
            <a:ext cx="3581280" cy="2317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338720" y="97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362320"/>
            <a:ext cx="8077320" cy="35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45d145"/>
                </a:solidFill>
                <a:uFillTx/>
                <a:latin typeface="Times New Roman"/>
              </a:rPr>
              <a:t>LE COMITE DEPARTEMENTAL de la  SOM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DEP 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.000 Licenci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55 S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40 Cadres d’Animation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0 Rue Gaston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lanch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80170 Wiencourt l’Equip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0" lang="fr-FR" sz="1400" spc="-1" strike="noStrike">
                <a:solidFill>
                  <a:srgbClr val="ff3300"/>
                </a:solidFill>
                <a:latin typeface="Times New Roman"/>
              </a:rPr>
              <a:t>Tel : 03 22 42 31 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58200" y="-489924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BoutonRetourSommaire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81280" y="5638680"/>
            <a:ext cx="971640" cy="650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17:13:32Z</dcterms:created>
  <dc:creator>Luc</dc:creator>
  <dc:description/>
  <dc:language>en-US</dc:language>
  <cp:lastModifiedBy>Luc</cp:lastModifiedBy>
  <dcterms:modified xsi:type="dcterms:W3CDTF">2002-06-08T11:09:38Z</dcterms:modified>
  <cp:revision>40</cp:revision>
  <dc:subject/>
  <dc:title>Présentation PowerPoint</dc:title>
</cp:coreProperties>
</file>