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455-8E02-4506-A7F8-61A43DD4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397-2094-4DC9-BC97-C5FFF457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693-C579-4DF5-9FF0-608A6E75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4AF7-53C0-46B7-9115-350C627B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6BA-93F6-4538-BA84-81D3A5F6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49E-0CCA-4F47-A880-C34984E7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102-4283-4906-AE1A-1F03B6AF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034-1C8A-419F-A3B8-EAA39A2F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641-0340-4B1B-8A13-4142F396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E99-5CFD-4A2A-B5A3-6B2F31C8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57A-C720-431E-B788-0A174D3B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7A7-3244-4EA3-9A17-77A05709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993A-9E70-4011-B66D-D51F61ECB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rso.wanadoo.fr/codep80/index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1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38720" y="97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590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COUVERTE DE LA G.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276720"/>
            <a:ext cx="8534520" cy="19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 concept sport sant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t basé sur la gestion du capital santé de l’individu par l’activité phys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s séanc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parents bébé, enfants, adultes, seni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ncadr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par des cadres compétents diplôm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1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38720" y="97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590920"/>
            <a:ext cx="731520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45d145"/>
                </a:solidFill>
                <a:uFillTx/>
                <a:latin typeface="Times New Roman"/>
              </a:rPr>
              <a:t>LA FEDERATION  F.F.E.P.G.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édération Française d’éducation physique et de gymnastique Volont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500.000 Licenc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41,43 Rue de Reui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 : //www.ffepgv.org                                         PARIS 7501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fr-FR" sz="1400" spc="-1" strike="noStrike">
                <a:solidFill>
                  <a:srgbClr val="ff3300"/>
                </a:solidFill>
                <a:latin typeface="Times New Roman"/>
              </a:rPr>
              <a:t>Tel : 01 44 68 85 40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58200" y="-489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1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38720" y="97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2438280"/>
            <a:ext cx="6705720" cy="37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45d145"/>
                </a:solidFill>
                <a:uFillTx/>
                <a:latin typeface="Times New Roman"/>
              </a:rPr>
              <a:t>LE COMITE REGIONAL de PICAR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11.000 Licenci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groupant les Dépar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ISNE     (02)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 bis Rue Charles Faro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ISE        (60)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Puy Du R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MME   (80)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60200  COMPIEG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fr-FR" sz="1400" spc="-1" strike="noStrike">
                <a:solidFill>
                  <a:srgbClr val="ff3300"/>
                </a:solidFill>
                <a:latin typeface="Times New Roman"/>
              </a:rPr>
              <a:t>Tel : 03 44 20 12 5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458200" y="-489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1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38720" y="97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362320"/>
            <a:ext cx="807732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45d145"/>
                </a:solidFill>
                <a:uFillTx/>
                <a:latin typeface="Times New Roman"/>
              </a:rPr>
              <a:t>LE COMITE DEPARTEMENTAL de la  SO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DEP 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000 Licenc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55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40 Cadres d’Animation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0 Rue Gaston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lanch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80170 Wiencourt l’Equip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fr-FR" sz="1400" spc="-1" strike="noStrike">
                <a:solidFill>
                  <a:srgbClr val="ff3300"/>
                </a:solidFill>
                <a:latin typeface="Times New Roman"/>
              </a:rPr>
              <a:t>Tel : 03 22 42 31 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58200" y="-489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outonRetourSommaire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5638680"/>
            <a:ext cx="971640" cy="65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7:13:32Z</dcterms:created>
  <dc:creator>Luc</dc:creator>
  <dc:description/>
  <dc:language>en-US</dc:language>
  <cp:lastModifiedBy>Luc</cp:lastModifiedBy>
  <dcterms:modified xsi:type="dcterms:W3CDTF">2002-06-08T11:09:38Z</dcterms:modified>
  <cp:revision>40</cp:revision>
  <dc:subject/>
  <dc:title>Présentation PowerPoint</dc:title>
</cp:coreProperties>
</file>