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521-57BE-4ED1-B401-58039E3B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BBF-AA59-4BED-A7F7-069ACBC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B3D-FEFB-4422-905F-01C9CE5F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040-C4E1-4201-9E96-CCB96B3B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28D-B449-4AEB-BC0F-3BF2E84A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CF0-49A9-4E5F-9E2C-A6AD693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010-AB5F-44AE-A715-C9677046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93C-A7AF-470C-B178-A5E561C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153-434D-495B-B94F-748FBB2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56A-CF87-4B30-952C-0662B40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169-F3B9-4D03-ADE1-D58F489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93A-39BD-4E65-9D21-870B636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FBC-802A-4964-B3F4-8C57B4EC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rso.wanadoo.fr/codep80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OUVERTE DE LA G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76720"/>
            <a:ext cx="85345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concept sport sant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 basé sur la gestion du capital santé de l’individu par l’activité phy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 séa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parents bébé, enfants, adultes, sen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cad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ar des cadres compétents diplôm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90920"/>
            <a:ext cx="73152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A FEDERATION  F.F.E.P.G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édération Française d’éducation physique et de gymnastique Volo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00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1,43 Rue de Reui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 : //www.ffepgv.org                                         PARIS 750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1 44 68 85 4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438280"/>
            <a:ext cx="670572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REGIONAL de PICAR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1.000 Licenc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oupant les Dépar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ISNE     (02)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bis Rue Charles Far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SE        (60)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uy Du 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E   (80)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0200  COMPIE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44 20 12 5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07732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DEPARTEMENTAL de la  S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DEP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5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0 Cadres d’Animation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Rue Gast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lanc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0170 Wiencourt l’Equip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22 42 31 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outonRetourSommair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638680"/>
            <a:ext cx="97164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3:32Z</dcterms:created>
  <dc:creator>Luc</dc:creator>
  <dc:description/>
  <dc:language>en-US</dc:language>
  <cp:lastModifiedBy>Luc</cp:lastModifiedBy>
  <dcterms:modified xsi:type="dcterms:W3CDTF">2002-06-08T11:09:38Z</dcterms:modified>
  <cp:revision>40</cp:revision>
  <dc:subject/>
  <dc:title>Présentation PowerPoint</dc:title>
</cp:coreProperties>
</file>